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CDA9-0364-4377-9946-793A316C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664D-B2B8-42C8-9F89-BEFE55A86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8B7-50C0-43A4-93E1-E9F66F6C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7A84-DD28-49CF-A96F-525469331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CF57-7C45-451B-88FC-C31174A19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A9EC-8CA8-4D18-969E-EA519E74D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358B-4FBC-402E-BCF2-8CDF1793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53E-0031-43B3-A569-29F3E2962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D673-EBFB-40F5-A0B9-F60E2D9D2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801C-6C43-4354-991D-CB91B9E9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CB3-F7E3-436D-906F-20C57272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0EF-1CB9-47C3-B2FB-BC77A621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14D-A14D-454B-B557-CFBC771C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A25-18A1-461C-81BF-F4D05022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46B-23FD-40A7-89B4-5074AFD4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4CE7-7EC6-4558-B480-CAA86FAF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D71-514B-4544-980A-49FA310F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626D-7CFB-4A6C-BC2F-4C460553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1B8-601F-492E-835A-C3E36EFB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6A1-D6C4-4ADC-8C30-783BE0F3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573C-6CE3-492C-B5B1-96DD9027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D94E-84E6-4195-BA27-F0B7C4ED0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MENT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Anaerobic Respiratio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ERM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process that releases energy from food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657600" y="5410080"/>
            <a:ext cx="12600" cy="12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819520" y="4572000"/>
            <a:ext cx="12600" cy="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FERMENT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bsence of oxygen; It is an anaerobic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FERMENT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pla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ES FERMENTATION OCCU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simpl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lease of ener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back: Not very efficient - only get 2 AT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for each molecule of glucose broken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5067360" cy="236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809880" y="4191120"/>
            <a:ext cx="51055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TIC ACID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d out by animals, some bacteria and a few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 product = lact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lactic ac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aking food products like yogurt,   cheese, pickles and soy sau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tic acid builds up in our muscles during strenuous exer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COHOLIC 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d out by bacteria and y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 products = ethyl alcohol and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of waste produc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aking beer and 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s a gasoline add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in bread and bakery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676160" cy="1598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371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3:01:19Z</dcterms:created>
  <dc:creator>Clayton Johns</dc:creator>
  <dc:description/>
  <dc:language>en-US</dc:language>
  <cp:lastModifiedBy>Sherri Holmgren</cp:lastModifiedBy>
  <dcterms:modified xsi:type="dcterms:W3CDTF">2017-11-13T17:40:28Z</dcterms:modified>
  <cp:revision>6</cp:revision>
  <dc:subject/>
  <dc:title>FERMENTATION</dc:title>
</cp:coreProperties>
</file>